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022-6D14-4099-9791-6F69FEC0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FDB-896C-4877-8D36-84A88C7A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428-2C1D-4504-B58A-014BECE1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4AC-B130-47DD-8C50-845CCDA1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615-C221-4B97-9962-E224D77D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CC8-5F96-4BBB-A236-B6F937F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FE8-FC34-4286-A189-1E04410F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57E-0180-4DD8-BCF4-F9B7F6A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B75-86C7-4C6B-AA4C-D655A523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D40-0045-471D-BF60-FB2EBD5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6C9-1677-4AB6-8D10-1360DA5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C05-0669-4446-BE1A-BC80007E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47CF-D4B1-42E2-87D0-D5D8294FCD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七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相关动画知识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七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相关动画知识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2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国际动画电影协会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3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专业术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1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法国昂西国际动画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地位：世界最大最权威的动画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960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举办时间：每年的六月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主办单位：国际动画业中心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ICA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评奖范畴：水彩作品、三维作品、剪纸作品、黏土作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官方网站：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ttp://www.annecy.or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http://img3.douban.com/view/note/large/public/p87529639-1.jpg"/>
          <p:cNvPicPr/>
          <p:nvPr/>
        </p:nvPicPr>
        <p:blipFill>
          <a:blip r:embed="rId1"/>
          <a:stretch/>
        </p:blipFill>
        <p:spPr>
          <a:xfrm>
            <a:off x="6053040" y="5711760"/>
            <a:ext cx="3090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2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德国斯图加特国际动画电影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地位：世界第二大动画电影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举办时间：每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主办单位：德国路德维希堡电影学院动画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特点：没有规定主题，非常强调艺术上的自由性、个性化。特别鼓励获奖者以及他所来自的院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tfs.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3" descr="http://www.itfs.de/typo3temp/pics/85f7ff6c53.jpg"/>
          <p:cNvPicPr/>
          <p:nvPr/>
        </p:nvPicPr>
        <p:blipFill>
          <a:blip r:embed="rId1"/>
          <a:stretch/>
        </p:blipFill>
        <p:spPr>
          <a:xfrm>
            <a:off x="7718400" y="543240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萨格勒布国际动画电影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72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举办时间：每年的三月底四月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主办单位：国际动画节委员会、这是由萨格勒布市政府制定的每四年一期的委员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合作伙伴：克罗地亚文化部、萨格勒布文化局、国际动画协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评奖种类：大奖影片，学生影片，儿童影片，终身成就奖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animafest.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4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广岛国际动画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创办时间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举办时间：每年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主办单位：国际动画电影协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评奖种类：大奖，最初佳作奖，最佳观众选票奖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官方网址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hiroanim.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" descr="http://img3.douban.com/view/note/large/public/p87531325-1.jpg"/>
          <p:cNvPicPr/>
          <p:nvPr/>
        </p:nvPicPr>
        <p:blipFill>
          <a:blip r:embed="rId1"/>
          <a:stretch/>
        </p:blipFill>
        <p:spPr>
          <a:xfrm>
            <a:off x="5549760" y="6021360"/>
            <a:ext cx="35942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知名动画节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1.5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渥太华国际动画影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创办时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7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收件时间：约六月中旬截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颁奖时间：九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品要求：任何可以在电影或电视或网络上放映的动画或电影；任何停格拍摄或是电脑制作的影像类型皆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格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H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录影带或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位光碟作品拷贝一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评奖种类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Ani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考网址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ttawa.aw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" descr="http://img3.douban.com/view/note/large/public/p87532173-1.jpg"/>
          <p:cNvPicPr/>
          <p:nvPr/>
        </p:nvPicPr>
        <p:blipFill>
          <a:blip r:embed="rId1"/>
          <a:stretch/>
        </p:blipFill>
        <p:spPr>
          <a:xfrm>
            <a:off x="7143840" y="5889600"/>
            <a:ext cx="2000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国际动画电影协会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国际动画电影协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（全称是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tional Animated Film Association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）。该协会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年，在法国昂西，由一些当时最著名的动画艺术家如诺曼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麦克拉伦等发起成立。当今世界上所有重要的动画节都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支持举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这个机构成立的目的是想让全世界的动画工作者，通过这个协会进行国际间的合作，自由的交流创意、分享经验，从而推动整个动画事业的发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FA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的官方网址是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.asifa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719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http://asifa.net/wp-content/uploads/ASIFA-Book-1.jpg"/>
          <p:cNvPicPr/>
          <p:nvPr/>
        </p:nvPicPr>
        <p:blipFill>
          <a:blip r:embed="rId1"/>
          <a:srcRect l="0" t="19864" r="0" b="18842"/>
          <a:stretch/>
        </p:blipFill>
        <p:spPr>
          <a:xfrm>
            <a:off x="6732720" y="5172120"/>
            <a:ext cx="2411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dcterms:modified xsi:type="dcterms:W3CDTF">2012-12-30T06:08:01Z</dcterms:modified>
  <cp:revision>8</cp:revision>
  <dc:subject/>
  <dc:title>第一章  动画的本质与特征</dc:title>
</cp:coreProperties>
</file>