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A2F-80F3-4D1F-ABB5-749B58E1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39F-8A94-4B87-9966-AA5316AE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2E75-81AB-4CA4-AA77-47F0266F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EE8-E87F-46F6-9079-B05CCCA5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373-C99F-496A-94DC-5EAE7B5C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299E-A083-4069-AFD1-801ECC8C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FA81-7463-448F-9CCC-0C1F5640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D37-8615-440E-9D8F-F3137CD9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086C-A096-4752-8360-BC4F7FBA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28B-81C6-410C-9FDE-B77CE7FA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886-AEDC-4A55-B394-881453AC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487-0F13-4B1F-804F-096505EE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PPT背景图片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85A8-B9AD-475A-91BB-86032CE09A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PPT背景图片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第六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动画工作者应具备的素质与技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2.2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软件操作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内容占位符 8"/>
          <p:cNvSpPr/>
          <p:nvPr/>
        </p:nvSpPr>
        <p:spPr>
          <a:xfrm>
            <a:off x="395280" y="2637000"/>
            <a:ext cx="82296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绘图软件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nt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ustrato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tos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维电脑动画软件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维电脑动画软件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D MAX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i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2.3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动作设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6.2.3.1 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表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具备模仿、揣摩、再现人物动作的能力，并理解人类共通的肢体语言、情绪表现方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2.3.2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运动规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2.3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动作设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6.2.3.1 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表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51444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宋体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交流与表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51444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宋体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心理形体的体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51444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宋体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个性的电影化显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51444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宋体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声音的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2.3.2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运动规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364000" y="2924280"/>
            <a:ext cx="332280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禅宗七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称、简洁、老练、自然、深藏不露、不落旧套、宁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2.3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动作设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2.3.1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表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6.2.3.2 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运动规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保证动作的合理性与趣味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力学原理、人机工学原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6.2.4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视听语言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6.2.4.1 </a:t>
            </a:r>
            <a:r>
              <a:rPr b="1" lang="zh-CN" sz="2600" spc="-1" strike="noStrike">
                <a:solidFill>
                  <a:srgbClr val="c00000"/>
                </a:solidFill>
                <a:latin typeface="Calibri"/>
              </a:rPr>
              <a:t>镜头设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2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场面调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3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剪辑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4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声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4140360" y="2565360"/>
            <a:ext cx="46796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镜头设计的要素：景别、摄影机角度、摄影机运动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在动画片创作中要注意制造富有创意的转场效果、拍摄角度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接连接符 4"/>
          <p:cNvSpPr/>
          <p:nvPr/>
        </p:nvSpPr>
        <p:spPr>
          <a:xfrm flipH="1">
            <a:off x="3924360" y="2060640"/>
            <a:ext cx="1440" cy="3529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6.2.4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视听语言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1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镜头设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6.2.4.2 </a:t>
            </a:r>
            <a:r>
              <a:rPr b="1" lang="zh-CN" sz="2600" spc="-1" strike="noStrike">
                <a:solidFill>
                  <a:srgbClr val="c00000"/>
                </a:solidFill>
                <a:latin typeface="Calibri"/>
              </a:rPr>
              <a:t>场面调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3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剪辑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4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声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4140360" y="2565360"/>
            <a:ext cx="467964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场面调度的概念是由戏剧发展而来，是指导演对于镜头视觉元素的安排，包括演员的走位、摄影机的运动，灯光、色彩、构图、空间与距离、景深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直接连接符 4"/>
          <p:cNvSpPr/>
          <p:nvPr/>
        </p:nvSpPr>
        <p:spPr>
          <a:xfrm flipH="1">
            <a:off x="3924360" y="2060640"/>
            <a:ext cx="1440" cy="3529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6.2.4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视听语言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1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镜头设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2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场面调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6.2.4.3 </a:t>
            </a:r>
            <a:r>
              <a:rPr b="1" lang="zh-CN" sz="2600" spc="-1" strike="noStrike">
                <a:solidFill>
                  <a:srgbClr val="c00000"/>
                </a:solidFill>
                <a:latin typeface="Calibri"/>
              </a:rPr>
              <a:t>剪辑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4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声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4140360" y="2565360"/>
            <a:ext cx="4679640" cy="1739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剪辑的目的首先是“连戏”，次之是控制影片的节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接连接符 4"/>
          <p:cNvSpPr/>
          <p:nvPr/>
        </p:nvSpPr>
        <p:spPr>
          <a:xfrm flipH="1">
            <a:off x="3924360" y="2060640"/>
            <a:ext cx="1440" cy="3529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6.2.4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视听语言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1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镜头设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2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场面调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6.2.4.3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剪辑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6.2.4.4 </a:t>
            </a:r>
            <a:r>
              <a:rPr b="1" lang="zh-CN" sz="2600" spc="-1" strike="noStrike">
                <a:solidFill>
                  <a:srgbClr val="c00000"/>
                </a:solidFill>
                <a:latin typeface="Calibri"/>
              </a:rPr>
              <a:t>声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140360" y="2565360"/>
            <a:ext cx="4679640" cy="2837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声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人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音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音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接连接符 4"/>
          <p:cNvSpPr/>
          <p:nvPr/>
        </p:nvSpPr>
        <p:spPr>
          <a:xfrm flipH="1">
            <a:off x="3924360" y="2060640"/>
            <a:ext cx="1440" cy="3529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第六章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画工作者应具备的素质与技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98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8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业素质的培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8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8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1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专业素质的培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1.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丰富的想象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内容占位符 8"/>
          <p:cNvSpPr/>
          <p:nvPr/>
        </p:nvSpPr>
        <p:spPr>
          <a:xfrm>
            <a:off x="468360" y="2852640"/>
            <a:ext cx="82296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做动画的人，是像上帝一样在创造世界，因为他面对的只是一张白纸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科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奇特丰富的想象力是动画艺术创作的灵感来源之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3" descr="http://hiphotos.baidu.com/crazyxlan/pic/item/ff677d1591b1f41121a4e9eb.jpg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1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专业素质的培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1.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敏锐的观察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内容占位符 8"/>
          <p:cNvSpPr/>
          <p:nvPr/>
        </p:nvSpPr>
        <p:spPr>
          <a:xfrm>
            <a:off x="324000" y="2565360"/>
            <a:ext cx="82296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是艺术创作的源泉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没有观察就没有动画作品的真实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1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专业素质的培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1.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人文素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内容占位符 8"/>
          <p:cNvSpPr/>
          <p:nvPr/>
        </p:nvSpPr>
        <p:spPr>
          <a:xfrm>
            <a:off x="539640" y="2565360"/>
            <a:ext cx="822960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高雅的审美情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历史和各种风土人情的通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文学艺术赏析的独到见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现实社会深层问题的深刻省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了解人类文化心理的共同性需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元文化背景下的民族个性展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2.1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美术造型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6.2.1.1 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速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2.1.2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型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2.1.3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色彩构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图片 3" descr="andreas-deja-sketches-01"/>
          <p:cNvPicPr/>
          <p:nvPr/>
        </p:nvPicPr>
        <p:blipFill>
          <a:blip r:embed="rId1"/>
          <a:srcRect l="0" t="8843" r="0" b="2686"/>
          <a:stretch/>
        </p:blipFill>
        <p:spPr>
          <a:xfrm>
            <a:off x="3059280" y="2421000"/>
            <a:ext cx="2485800" cy="30319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4" descr="andreas-deja-sketches-02"/>
          <p:cNvPicPr/>
          <p:nvPr/>
        </p:nvPicPr>
        <p:blipFill>
          <a:blip r:embed="rId2"/>
          <a:srcRect l="0" t="4425" r="0" b="4425"/>
          <a:stretch/>
        </p:blipFill>
        <p:spPr>
          <a:xfrm>
            <a:off x="5580000" y="2421000"/>
            <a:ext cx="25210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2.1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美术造型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2.1.1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速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6.2.1.2 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造型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2.1.3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色彩构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图片 5" descr="up_pixar_concept_art_character_03"/>
          <p:cNvPicPr/>
          <p:nvPr/>
        </p:nvPicPr>
        <p:blipFill>
          <a:blip r:embed="rId1"/>
          <a:srcRect l="0" t="3271" r="0" b="0"/>
          <a:stretch/>
        </p:blipFill>
        <p:spPr>
          <a:xfrm>
            <a:off x="2843280" y="2287440"/>
            <a:ext cx="3097080" cy="45705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6" descr="up_pixar_concept_art_character_07"/>
          <p:cNvPicPr/>
          <p:nvPr/>
        </p:nvPicPr>
        <p:blipFill>
          <a:blip r:embed="rId2"/>
          <a:srcRect l="0" t="3034" r="0" b="0"/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基本技能的训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2.1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美术造型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2.1.1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速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2.1.2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型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6.2.1.3 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色彩构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图片 5" descr="http://pic.nipic.com/2008-05-26/2008526153114479_2.jpg"/>
          <p:cNvPicPr/>
          <p:nvPr/>
        </p:nvPicPr>
        <p:blipFill>
          <a:blip r:embed="rId1"/>
          <a:srcRect l="0" t="0" r="0" b="3199"/>
          <a:stretch/>
        </p:blipFill>
        <p:spPr>
          <a:xfrm>
            <a:off x="2843280" y="3860640"/>
            <a:ext cx="2673360" cy="28339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" descr="http://f2.shede.com/2010/03/20/1269079658935_610_b.png"/>
          <p:cNvPicPr/>
          <p:nvPr/>
        </p:nvPicPr>
        <p:blipFill>
          <a:blip r:embed="rId2"/>
          <a:stretch/>
        </p:blipFill>
        <p:spPr>
          <a:xfrm>
            <a:off x="5796000" y="1773360"/>
            <a:ext cx="2362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user</cp:lastModifiedBy>
  <dcterms:modified xsi:type="dcterms:W3CDTF">2012-12-30T05:56:58Z</dcterms:modified>
  <cp:revision>15</cp:revision>
  <dc:subject/>
  <dc:title>第一章  动画的本质与特征</dc:title>
</cp:coreProperties>
</file>