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F68-D90B-4CD8-95AE-9E1544B6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80A-62DF-44B8-A0C1-119675ED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993-9ECA-4FEE-86DF-7727F20A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6A8-5107-4828-88AD-1E07968F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CD5-AD79-4AD1-9856-53F88189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386-8EE9-48EF-A889-745306A2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6E2-A63F-4878-B3C3-D5DEC28F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711-C4DB-4853-BCBB-4876137A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95C-BF2F-4596-9F24-7D96E939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A0B-E020-40D8-8722-D0962501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88A-CFB3-4C89-B540-D89525C9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80A-21E8-48B2-B191-87DF63D0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PPT背景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28D5-6F88-445B-B53B-3F9D0CCD20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第一章  动画的本质与特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本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1.2.2 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高度的假定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片的假定性主要体现在两个方面，即技术上的假定性和思想上的假定性。技术的假定性，如用二维平面表现三维空间，空间是非现实的。思想上的假定指的是动画的创作来源于作者的想象力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片的假定性正是出于它的非真实的制作手段。动画片是通过自身的感染力令观众明知是假的仍然为之感动，因此它付出的努力并不是为了亦幻亦真地制造现实，而是通过其特有的夸张和渲染超越现实，展现一个与现实有着不同魅力的梦幻世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60764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龙猫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99680"/>
            <a:ext cx="9144000" cy="5357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" descr="龙猫截图.jpg"/>
          <p:cNvPicPr/>
          <p:nvPr/>
        </p:nvPicPr>
        <p:blipFill>
          <a:blip r:embed="rId2"/>
          <a:stretch/>
        </p:blipFill>
        <p:spPr>
          <a:xfrm>
            <a:off x="0" y="2142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440" y="60764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萤火虫之墓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占位符 3" descr="萤火虫之墓截图.jpg"/>
          <p:cNvPicPr/>
          <p:nvPr/>
        </p:nvPicPr>
        <p:blipFill>
          <a:blip r:embed="rId1"/>
          <a:srcRect l="0" t="7809" r="0" b="7809"/>
          <a:stretch/>
        </p:blipFill>
        <p:spPr>
          <a:xfrm>
            <a:off x="0" y="50004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本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.3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高度的设计制作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动画具有很强的制作性，很强的审美价值，比如精致的木偶、剪纸等，原本这些工艺都需要很高的技术水平，参与到动画制作中，要求更高。除了在这些基础的造型上要做到精益求精，了解各种造型手段的特点和技巧，还得要考虑如何让这种造型动起来，怎么动会好看，符合观众的审美要求，相比雕塑或者绘画这些静态艺术，动画更加复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60764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鬼妈妈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模型制作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99680"/>
            <a:ext cx="9144000" cy="53578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" descr="J:\下载\定格动画方面的资料\鬼妈妈花絮 (16).jpg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片的特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3.1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叙事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动画片是人类的一种表意方式，都具有时间形态的艺术特征，一般来说，同时间相关的艺术很容易成为叙事的艺术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叙事性并非动画片所特有，电影、文学、戏剧等都属于叙事的艺术。动画片的叙事性是其与文学相似性的根本所在，按照戏剧文学的叙事规律和电影化的想象架构故事，影像也是一种符号，目的在于传达某种意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片的特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3.2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绘画工艺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绘画工艺性是指动画片在形式上的特点。动画具有工艺的性质，是一种制作方法和加工程序。任何一种动画片都必须借助于某些美术的工艺手段来完成，比如绘画、雕塑、剪纸等。此处的工艺性是指运用美术的手段，而不是美术的本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片的特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3.3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艺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艺术性是指动画形式特点所造就的效果，或者说是给观众带来的感受。这种效果可以从以下三个方面来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假定与虚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夸张与变形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现实与超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60764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角色表演中的变形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99680"/>
            <a:ext cx="9144000" cy="53578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2"/>
          <a:srcRect l="0" t="9971" r="0" b="2568"/>
          <a:stretch/>
        </p:blipFill>
        <p:spPr>
          <a:xfrm>
            <a:off x="71280" y="1643040"/>
            <a:ext cx="8944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080" y="6076440"/>
            <a:ext cx="57798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Calibri"/>
              </a:rPr>
              <a:t>生活中的动作与动画中的动作对比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99680"/>
            <a:ext cx="9144000" cy="5357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未标题-2"/>
          <p:cNvPicPr/>
          <p:nvPr/>
        </p:nvPicPr>
        <p:blipFill>
          <a:blip r:embed="rId2"/>
          <a:srcRect l="0" t="10769" r="0" b="0"/>
          <a:stretch/>
        </p:blipFill>
        <p:spPr>
          <a:xfrm>
            <a:off x="2143080" y="0"/>
            <a:ext cx="48402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第一章  动画的本质与特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000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000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画的定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000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画的本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000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3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画片的特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00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定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.1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字面定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的英文为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，是由拉丁文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引申而来的。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在拉丁文中为“灵魂”的意思；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te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是“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活起来”的意思；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tor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则是“赋予生命”的意思。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翻译为动画，一般来讲是创造生命力的手段，即把不具备生命的静止的形象（绘画、剪纸、玩偶、符号等），经过艺术加工和处理，使之成为有生命、有性格的，可以活动的影像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定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.2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什么是动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一般概念来讲，动画应该是创造生命力的技术和手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使得原本没有生命的形象获得生命与性格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是一种技术和手段，是造型之间的运动过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定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.3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什么是卡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卡通是一种由报纸上多格的政治漫画转化而成的绘画形式，是以时事政治或生活等为主题，运用简单而夸张的手法加以表现的特殊绘画作品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实际上，卡通和动画是两种不同的艺术形式：卡通属于平面的绘画艺术形式，是空间的艺术；动画则是属于影视艺术形式，是时空的艺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1898德鲁道夫德克 连环漫画.jpg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4951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56437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漫画家德鲁道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德克创作的多格漫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定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.1.4 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什么是动画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片是一种技术和艺术相结合的产物。从技术方面来说，它的基础是“逐格拍摄”；从艺术方面来说，“具备某种美术形式”是它的基础。因此，动画片其实是由两方面要素组成的：逐格拍摄和美术形式，缺少其中任何一个则不能称之为动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片是一种以“逐格拍摄”为技术基础，并以一定的美术形式作为内容载体的影片样式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埃及王子海报.jpg"/>
          <p:cNvPicPr/>
          <p:nvPr/>
        </p:nvPicPr>
        <p:blipFill>
          <a:blip r:embed="rId1"/>
          <a:stretch/>
        </p:blipFill>
        <p:spPr>
          <a:xfrm>
            <a:off x="857160" y="642960"/>
            <a:ext cx="3429000" cy="4865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海底总动员海报.jpg"/>
          <p:cNvPicPr/>
          <p:nvPr/>
        </p:nvPicPr>
        <p:blipFill>
          <a:blip r:embed="rId2"/>
          <a:stretch/>
        </p:blipFill>
        <p:spPr>
          <a:xfrm>
            <a:off x="5072040" y="642960"/>
            <a:ext cx="3286080" cy="4863960"/>
          </a:xfrm>
          <a:prstGeom prst="rect">
            <a:avLst/>
          </a:prstGeom>
          <a:ln w="0">
            <a:noFill/>
          </a:ln>
        </p:spPr>
      </p:pic>
      <p:sp>
        <p:nvSpPr>
          <p:cNvPr id="58" name="矩形 5"/>
          <p:cNvSpPr/>
          <p:nvPr/>
        </p:nvSpPr>
        <p:spPr>
          <a:xfrm>
            <a:off x="1071720" y="58453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埃及王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                 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海底总动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2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画的本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.2.1 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运动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动画是“动”的艺术，“动”是一切的根本，只有在时间上发生了变化，而且发生了精美的变化才算是好的动画作品。根据人的“视觉暂留原理”，利用各种不同的技术手段，创造出动态的画面，让观众得到精神上的愉悦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运动的形态在动画中以位移和变形的方式来呈现，即位置的变化与形状的变化，而这些变化需要对时间进行合理分配才能有变化的意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2T07:21:49Z</dcterms:created>
  <dc:creator>Administrator</dc:creator>
  <dc:description/>
  <dc:language>en-US</dc:language>
  <cp:lastModifiedBy>Administrator</cp:lastModifiedBy>
  <dcterms:modified xsi:type="dcterms:W3CDTF">2017-10-12T07:23:26Z</dcterms:modified>
  <cp:revision>6</cp:revision>
  <dc:subject/>
  <dc:title>第一章  动画的本质与特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