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371B-3632-464C-9A9E-896CDBDD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26D6-347F-4117-BB4F-88589309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023E-7610-4F22-ACE5-12E0764D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6313-7DA7-4406-A3B9-131DD9DB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DB59-4F52-4847-A35F-5A5502D2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8A70-45F8-4EB1-99EF-E1181C48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1E17-5757-4E73-BD3A-65A163D9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0069-9D62-4B4E-95CF-4ED7D7CD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2064-7EC1-456F-850F-4EC0FA07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D50-6538-4430-874C-366A8C0F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1B7A-3AA7-4910-A7AE-E5BE1C39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3602-658E-4A78-93B1-AAD63512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PPT背景图片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9EDD-820E-4D97-B251-A50BC7DD50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PPT背景图片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第七章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相关动画知识介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第七章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相关动画知识介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98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8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.1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知名动画节简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8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.2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国际动画电影协会简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8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.3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画专业术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8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7.1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知名动画节简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.1.1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法国昂西国际动画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地位：世界最大最权威的动画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创办时间：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960</a:t>
            </a: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举办时间：每年的六月初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主办单位：国际动画业中心（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ICA</a:t>
            </a: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评奖范畴：水彩作品、三维作品、剪纸作品、黏土作品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官方网站：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http://www.annecy.or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片 3" descr="http://img3.douban.com/view/note/large/public/p87529639-1.jpg"/>
          <p:cNvPicPr/>
          <p:nvPr/>
        </p:nvPicPr>
        <p:blipFill>
          <a:blip r:embed="rId1"/>
          <a:stretch/>
        </p:blipFill>
        <p:spPr>
          <a:xfrm>
            <a:off x="6053040" y="5711760"/>
            <a:ext cx="30909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7.1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知名动画节简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.1.2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德国斯图加特国际动画电影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地位：世界第二大动画电影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创办时间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8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举办时间：每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月底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月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主办单位：德国路德维希堡电影学院动画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特点：没有规定主题，非常强调艺术上的自由性、个性化。特别鼓励获奖者以及他所来自的院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官方网址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itfs.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图片 3" descr="http://www.itfs.de/typo3temp/pics/85f7ff6c53.jpg"/>
          <p:cNvPicPr/>
          <p:nvPr/>
        </p:nvPicPr>
        <p:blipFill>
          <a:blip r:embed="rId1"/>
          <a:stretch/>
        </p:blipFill>
        <p:spPr>
          <a:xfrm>
            <a:off x="7718400" y="5432400"/>
            <a:ext cx="142560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7.1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知名动画节简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.1.3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萨格勒布国际动画电影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创办时间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72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举办时间：每年的三月底四月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主办单位：国际动画节委员会、这是由萨格勒布市政府制定的每四年一期的委员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合作伙伴：克罗地亚文化部、萨格勒布文化局、国际动画协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评奖种类：大奖影片，学生影片，儿童影片，终身成就奖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官方网址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ttp://www.animafest.h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7.1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知名动画节简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.1.4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广岛国际动画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创办时间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8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举办时间：每年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主办单位：国际动画电影协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评奖种类：大奖，最初佳作奖，最佳观众选票奖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官方网址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hiroanim.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3" descr="http://img3.douban.com/view/note/large/public/p87531325-1.jpg"/>
          <p:cNvPicPr/>
          <p:nvPr/>
        </p:nvPicPr>
        <p:blipFill>
          <a:blip r:embed="rId1"/>
          <a:stretch/>
        </p:blipFill>
        <p:spPr>
          <a:xfrm>
            <a:off x="5549760" y="6021360"/>
            <a:ext cx="35942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7.1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知名动画节简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.1.5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渥太华国际动画影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创办时间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7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收件时间：约六月中旬截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颁奖时间：九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作品要求：任何可以在电影或电视或网络上放映的动画或电影；任何停格拍摄或是电脑制作的影像类型皆可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规格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H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录影带或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V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位光碟作品拷贝一份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评奖种类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Best Ani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参考网址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ottawa.awn.com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图片 3" descr="http://img3.douban.com/view/note/large/public/p87532173-1.jpg"/>
          <p:cNvPicPr/>
          <p:nvPr/>
        </p:nvPicPr>
        <p:blipFill>
          <a:blip r:embed="rId1"/>
          <a:stretch/>
        </p:blipFill>
        <p:spPr>
          <a:xfrm>
            <a:off x="7143840" y="5889600"/>
            <a:ext cx="20001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7.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国际动画电影协会简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国际动画电影协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IFA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（全称是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ational Animated Film Association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）。该协会于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60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年，在法国昂西，由一些当时最著名的动画艺术家如诺曼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麦克拉伦等发起成立。当今世界上所有重要的动画节都由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IFA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支持举办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这个机构成立的目的是想让全世界的动画工作者，通过这个协会进行国际间的合作，自由的交流创意、分享经验，从而推动整个动画事业的发展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IFA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的官方网址是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ww.asifa.n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719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图片 4" descr="http://asifa.net/wp-content/uploads/ASIFA-Book-1.jpg"/>
          <p:cNvPicPr/>
          <p:nvPr/>
        </p:nvPicPr>
        <p:blipFill>
          <a:blip r:embed="rId1"/>
          <a:srcRect l="0" t="19864" r="0" b="18842"/>
          <a:stretch/>
        </p:blipFill>
        <p:spPr>
          <a:xfrm>
            <a:off x="6732720" y="5172120"/>
            <a:ext cx="24112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user</cp:lastModifiedBy>
  <dcterms:modified xsi:type="dcterms:W3CDTF">2012-12-30T06:08:01Z</dcterms:modified>
  <cp:revision>8</cp:revision>
  <dc:subject/>
  <dc:title>第一章  动画的本质与特征</dc:title>
</cp:coreProperties>
</file>