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F71-9855-472C-AE16-84AF265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5CF-990F-4ED8-98E4-BE1B4339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186-4B42-49C3-9EA6-884D67B5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12F-44B7-4F77-B1FD-C1D58D81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4A0-E17D-400C-A05A-C0045B11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FAA-C765-4341-A337-104821E7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6E2-5FAF-4B3E-A8C9-FC80C15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935-CEC8-4C88-B3AF-1C94B5DB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A55-3E55-4E17-B75E-8900233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291-997C-4DBE-B5EF-C20CE59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441-2E5E-4278-9F7B-8BCBD03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86E-E601-45E5-BD6D-67C6887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690-E4F4-4CD7-B43E-B3EF0849BA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第六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动画工作者应具备的素质与技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2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软件操作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内容占位符 8"/>
          <p:cNvSpPr/>
          <p:nvPr/>
        </p:nvSpPr>
        <p:spPr>
          <a:xfrm>
            <a:off x="395280" y="2637000"/>
            <a:ext cx="82296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绘图软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s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维电脑动画软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维电脑动画软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MAX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i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作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3.1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具备模仿、揣摩、再现人物动作的能力，并理解人类共通的肢体语言、情绪表现方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3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运动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作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3.1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交流与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心理形体的体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个性的电影化显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声音的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3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运动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364000" y="2924280"/>
            <a:ext cx="33228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禅宗七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称、简洁、老练、自然、深藏不露、不落旧套、宁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作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3.1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3.2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运动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保证动作的合理性与趣味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力学原理、人机工学原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140360" y="2565360"/>
            <a:ext cx="46796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镜头设计的要素：景别、摄影机角度、摄影机运动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在动画片创作中要注意制造富有创意的转场效果、拍摄角度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140360" y="2565360"/>
            <a:ext cx="46796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场面调度的概念是由戏剧发展而来，是指导演对于镜头视觉元素的安排，包括演员的走位、摄影机的运动，灯光、色彩、构图、空间与距离、景深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140360" y="2565360"/>
            <a:ext cx="467964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剪辑的目的首先是“连戏”，次之是控制影片的节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140360" y="2565360"/>
            <a:ext cx="4679640" cy="283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人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音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音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第六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工作者应具备的素质与技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1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丰富的想象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内容占位符 8"/>
          <p:cNvSpPr/>
          <p:nvPr/>
        </p:nvSpPr>
        <p:spPr>
          <a:xfrm>
            <a:off x="468360" y="2852640"/>
            <a:ext cx="8229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做动画的人，是像上帝一样在创造世界，因为他面对的只是一张白纸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科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特丰富的想象力是动画艺术创作的灵感来源之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" descr="http://hiphotos.baidu.com/crazyxlan/pic/item/ff677d1591b1f41121a4e9eb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1.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敏锐的观察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内容占位符 8"/>
          <p:cNvSpPr/>
          <p:nvPr/>
        </p:nvSpPr>
        <p:spPr>
          <a:xfrm>
            <a:off x="324000" y="256536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是艺术创作的源泉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没有观察就没有动画作品的真实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1.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人文素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内容占位符 8"/>
          <p:cNvSpPr/>
          <p:nvPr/>
        </p:nvSpPr>
        <p:spPr>
          <a:xfrm>
            <a:off x="539640" y="2565360"/>
            <a:ext cx="822960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高雅的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历史和各种风土人情的通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文学艺术赏析的独到见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现实社会深层问题的深刻省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了解人类文化心理的共同性需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元文化背景下的民族个性展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美术造型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1.1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速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型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3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色彩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3" descr="andreas-deja-sketches-01"/>
          <p:cNvPicPr/>
          <p:nvPr/>
        </p:nvPicPr>
        <p:blipFill>
          <a:blip r:embed="rId1"/>
          <a:srcRect l="0" t="8843" r="0" b="2686"/>
          <a:stretch/>
        </p:blipFill>
        <p:spPr>
          <a:xfrm>
            <a:off x="3059280" y="2421000"/>
            <a:ext cx="2485800" cy="3031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andreas-deja-sketches-02"/>
          <p:cNvPicPr/>
          <p:nvPr/>
        </p:nvPicPr>
        <p:blipFill>
          <a:blip r:embed="rId2"/>
          <a:srcRect l="0" t="4425" r="0" b="4425"/>
          <a:stretch/>
        </p:blipFill>
        <p:spPr>
          <a:xfrm>
            <a:off x="5580000" y="2421000"/>
            <a:ext cx="2521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美术造型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1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速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1.2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造型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3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色彩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5" descr="up_pixar_concept_art_character_03"/>
          <p:cNvPicPr/>
          <p:nvPr/>
        </p:nvPicPr>
        <p:blipFill>
          <a:blip r:embed="rId1"/>
          <a:srcRect l="0" t="3271" r="0" b="0"/>
          <a:stretch/>
        </p:blipFill>
        <p:spPr>
          <a:xfrm>
            <a:off x="2843280" y="2287440"/>
            <a:ext cx="3097080" cy="45705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" descr="up_pixar_concept_art_character_07"/>
          <p:cNvPicPr/>
          <p:nvPr/>
        </p:nvPicPr>
        <p:blipFill>
          <a:blip r:embed="rId2"/>
          <a:srcRect l="0" t="3034" r="0" b="0"/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美术造型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1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速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型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1.3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色彩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5" descr="http://pic.nipic.com/2008-05-26/2008526153114479_2.jpg"/>
          <p:cNvPicPr/>
          <p:nvPr/>
        </p:nvPicPr>
        <p:blipFill>
          <a:blip r:embed="rId1"/>
          <a:srcRect l="0" t="0" r="0" b="3199"/>
          <a:stretch/>
        </p:blipFill>
        <p:spPr>
          <a:xfrm>
            <a:off x="2843280" y="3860640"/>
            <a:ext cx="2673360" cy="2833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http://f2.shede.com/2010/03/20/1269079658935_610_b.png"/>
          <p:cNvPicPr/>
          <p:nvPr/>
        </p:nvPicPr>
        <p:blipFill>
          <a:blip r:embed="rId2"/>
          <a:stretch/>
        </p:blipFill>
        <p:spPr>
          <a:xfrm>
            <a:off x="5796000" y="1773360"/>
            <a:ext cx="2362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</cp:lastModifiedBy>
  <dcterms:modified xsi:type="dcterms:W3CDTF">2012-12-30T05:56:58Z</dcterms:modified>
  <cp:revision>15</cp:revision>
  <dc:subject/>
  <dc:title>第一章  动画的本质与特征</dc:title>
</cp:coreProperties>
</file>